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2A39-9E2A-4ECF-8C87-83F586F588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716D-84F6-4C4E-8902-A1446FCF0D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A3D-89AE-4A12-A914-661086AC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E16-0CA1-4350-B964-5878E84F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9E4-2FC9-4DAE-874B-3EBC5AF4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7CF-6401-4FAA-AC3F-F404DC9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C47B-CD35-48AC-A142-920F8FFD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9191-E7F2-4B03-935D-6206BAA4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29B5-101E-4703-91A7-F0E57B18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CB4-3D16-4FE7-AAA7-C78B0595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C205-811A-441E-AC6F-AD0B8A11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BC23-FF71-47EA-849C-041784A2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9172-0364-4641-BCDD-C55B6D0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AB2-7941-4221-B75A-13F2ED31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C929-6A04-4B2A-8AEB-EB0BB37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560A-AAE0-4F78-98E1-3FF2BD8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3C42-42DC-4DAA-94AB-6082BF2C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5838-F361-4F84-A7C6-FAFC0CCA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4132-E930-4491-86CD-D04DA1A2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DFEB-6B41-4DBC-9509-D8D929E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DBC-B370-47CF-B4F3-A63FFBEC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C95-2895-4F68-8713-EFD24A88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AD9-334A-495B-A92D-AE0D45EA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F28-4AB5-4CF7-B414-FAC1B7F9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093-4A0A-4DDB-8D89-2C588F58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688-862C-449C-A3C6-24BD94D2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A6DF-39D4-4B7E-AA87-A22349943A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573f8b">
                    <a:alpha val="0"/>
                  </a:srgbClr>
                </a:gs>
                <a:gs pos="100000">
                  <a:srgbClr val="4734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6b5699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02CB-4C58-4FC0-BBAD-B423B7B13F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0160" y="213840"/>
            <a:ext cx="49291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Bach, canolig neu mawr?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5040" y="1090080"/>
            <a:ext cx="8779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lwyn, Beth a Carol wedi mynd i’r sin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nt am gael diod yr 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eddai Beth wrth y gwerthwr diodyd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Rydym eisiau un diod bach, un maint canol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g un maint maw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Dywedodd y bachgen a oedd yn cael diod canol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ff00"/>
                </a:solidFill>
                <a:latin typeface="Comic Sans MS"/>
              </a:rPr>
              <a:t>Roddwn i’n meddwl i ti ddweud dy fod am gael diod maw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500040" y="52862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Comic Sans MS"/>
              </a:rPr>
              <a:t>Pa ddiod cafodd pwy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8120160" y="5502240"/>
            <a:ext cx="1023840" cy="135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7500960" y="214200"/>
            <a:ext cx="1400040" cy="1414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3"/>
          <a:stretch/>
        </p:blipFill>
        <p:spPr>
          <a:xfrm>
            <a:off x="214200" y="2786040"/>
            <a:ext cx="1071720" cy="1231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7656480" y="2071800"/>
            <a:ext cx="148752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9:11:10Z</dcterms:created>
  <dc:creator>Carwyn</dc:creator>
  <dc:description/>
  <dc:language>en-US</dc:language>
  <cp:lastModifiedBy>Carwyn</cp:lastModifiedBy>
  <dcterms:modified xsi:type="dcterms:W3CDTF">2009-11-29T13:33:30Z</dcterms:modified>
  <cp:revision>3</cp:revision>
  <dc:subject/>
  <dc:title>Clowniaid</dc:title>
</cp:coreProperties>
</file>